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ACE-4B42-4A73-BF17-9299A35C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872-228E-4324-AE15-25C47927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916-848E-4196-9FAB-15F05B45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537-6DAD-4AD9-8609-9738FF05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6B2-7E9D-4E43-A3F5-D8DE3F6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448-1CE2-4334-B253-FAF1C3B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92F-F872-4EF4-8EA5-40BB116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F51-BE27-4E1A-8D84-39DBBA7C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93E-6364-4488-87BD-860DB5B3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CC7-623C-434E-8CFE-A1FFA26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7B0-A48C-4EDE-9233-D018CDC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6F3-7D52-4772-940E-8E0907F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919-E854-4F48-8A99-836AC11D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iar.org/img/CharliePerkins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ript MT Bold"/>
              </a:rPr>
              <a:t>..Charles Perkin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2876760" cy="3790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720" y="609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By Olena Murphy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harles Perkins"/>
          <p:cNvPicPr/>
          <p:nvPr/>
        </p:nvPicPr>
        <p:blipFill>
          <a:blip r:embed="rId1"/>
          <a:stretch/>
        </p:blipFill>
        <p:spPr>
          <a:xfrm>
            <a:off x="539640" y="26028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134136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357720"/>
            <a:ext cx="720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boriginal head of a Federal Government  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67280" y="126828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645000"/>
            <a:ext cx="763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Perkins was a soccer p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for Port Adelaide For nearly 1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harles Perkins photo"/>
          <p:cNvPicPr/>
          <p:nvPr/>
        </p:nvPicPr>
        <p:blipFill>
          <a:blip r:embed="rId1"/>
          <a:stretch/>
        </p:blipFill>
        <p:spPr>
          <a:xfrm>
            <a:off x="395280" y="476280"/>
            <a:ext cx="3168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00720" y="1197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981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2350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Perkins led a bus tour of outback settl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exposed the shocking treatment of the indigenous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harles Perkins"/>
          <p:cNvPicPr/>
          <p:nvPr/>
        </p:nvPicPr>
        <p:blipFill>
          <a:blip r:embed="rId1"/>
          <a:stretch/>
        </p:blipFill>
        <p:spPr>
          <a:xfrm>
            <a:off x="2268360" y="404640"/>
            <a:ext cx="3672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64500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in 1981 he was made hea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artment of Aboriginal Affai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2506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3789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kins is a member of the Olympic Indigenous Advisory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3:38:27Z</dcterms:created>
  <dc:creator>Reservoir District Secondary College</dc:creator>
  <dc:description/>
  <dc:language>en-US</dc:language>
  <cp:lastModifiedBy>Reservoir District Secondary College</cp:lastModifiedBy>
  <dcterms:modified xsi:type="dcterms:W3CDTF">2008-09-01T00:42:00Z</dcterms:modified>
  <cp:revision>8</cp:revision>
  <dc:subject/>
  <dc:title>..Charles Perkins..</dc:title>
</cp:coreProperties>
</file>